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4FF-C81C-4ECE-9509-63A4321A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417-98C7-40EA-9B99-457807F8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C0C-CF20-419C-A314-C6F1AEAA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FC3-8825-4827-B42B-60749DDE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A69-87E4-4871-A55C-F8785EB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1D0-8D56-4FAE-B7EE-BD157A5C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6B9-5610-4D85-9658-0B3B7A5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F33-6AAB-4FA6-93AB-BC982CE0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A8C-AB72-47C5-8570-9E33F965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511-5148-4BD1-B362-57201BA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146-AA34-460D-972B-058E9F4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5A3-5E9E-4CFB-9916-6B027E5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CED2-00AE-4D14-88CF-1335A3D2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urovi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vision is a popular song competition held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watched by over 125 million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started in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said to have started for cultural unity, but was actually started to test the new televi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 countries participate in eu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urovision: the great voting conspiracy"/>
          <p:cNvPicPr/>
          <p:nvPr/>
        </p:nvPicPr>
        <p:blipFill>
          <a:blip r:embed="rId1"/>
          <a:stretch/>
        </p:blipFill>
        <p:spPr>
          <a:xfrm>
            <a:off x="1676520" y="2209680"/>
            <a:ext cx="57718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and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have judges that score each song, and cannot score their own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can also vote for their favorite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ers have to perform a song that has never be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ers often dress in crazy outfits to get attention, which will get them mor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 the songs are performed in English, but national identity is still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zy out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2:44:35Z</dcterms:created>
  <dc:creator>SCSadmin</dc:creator>
  <dc:description/>
  <dc:language>en-US</dc:language>
  <cp:lastModifiedBy>SCSadmin</cp:lastModifiedBy>
  <dcterms:modified xsi:type="dcterms:W3CDTF">2012-08-22T13:10:26Z</dcterms:modified>
  <cp:revision>2</cp:revision>
  <dc:subject/>
  <dc:title>Slide 1</dc:title>
</cp:coreProperties>
</file>